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4.wmf" ContentType="image/x-wmf"/>
  <Override PartName="/ppt/media/explode.wav" ContentType="audio/x-wav"/>
  <Override PartName="/ppt/media/image11.wmf" ContentType="image/x-wmf"/>
  <Override PartName="/ppt/media/image22.wmf" ContentType="image/x-wmf"/>
  <Override PartName="/ppt/media/image21.wmf" ContentType="image/x-wmf"/>
  <Override PartName="/ppt/media/type.wav" ContentType="audio/x-wav"/>
  <Override PartName="/ppt/media/image20.png" ContentType="image/png"/>
  <Override PartName="/ppt/media/image18.wmf" ContentType="image/x-wmf"/>
  <Override PartName="/ppt/media/image2.jpeg" ContentType="image/jpeg"/>
  <Override PartName="/ppt/media/hammer.wav" ContentType="audio/x-wav"/>
  <Override PartName="/ppt/media/image19.jpeg" ContentType="image/jpeg"/>
  <Override PartName="/ppt/media/image31.jpeg" ContentType="image/jpeg"/>
  <Override PartName="/ppt/media/image10.wmf" ContentType="image/x-wmf"/>
  <Override PartName="/ppt/media/image35.wmf" ContentType="image/x-wmf"/>
  <Override PartName="/ppt/media/image14.wmf" ContentType="image/x-wmf"/>
  <Override PartName="/ppt/media/image6.png" ContentType="image/png"/>
  <Override PartName="/ppt/media/image9.wmf" ContentType="image/x-wmf"/>
  <Override PartName="/ppt/media/image34.wmf" ContentType="image/x-wmf"/>
  <Override PartName="/ppt/media/image26.jpeg" ContentType="image/jpeg"/>
  <Override PartName="/ppt/media/image17.png" ContentType="image/png"/>
  <Override PartName="/ppt/media/image32.jpeg" ContentType="image/jpeg"/>
  <Override PartName="/ppt/media/image30.jpeg" ContentType="image/jpeg"/>
  <Override PartName="/ppt/media/image37.wmf" ContentType="image/x-wmf"/>
  <Override PartName="/ppt/media/image7.wmf" ContentType="image/x-wmf"/>
  <Override PartName="/ppt/media/image8.png" ContentType="image/png"/>
  <Override PartName="/ppt/media/image36.wmf" ContentType="image/x-wmf"/>
  <Override PartName="/ppt/media/image16.png" ContentType="image/png"/>
  <Override PartName="/ppt/media/image5.png" ContentType="image/png"/>
  <Override PartName="/ppt/media/whoosh.wav" ContentType="audio/x-wav"/>
  <Override PartName="/ppt/media/image28.jpeg" ContentType="image/jpeg"/>
  <Override PartName="/ppt/media/image13.wmf" ContentType="image/x-wmf"/>
  <Override PartName="/ppt/media/image27.jpeg" ContentType="image/jpeg"/>
  <Override PartName="/ppt/media/image4.png" ContentType="image/png"/>
  <Override PartName="/ppt/media/image29.jpeg" ContentType="image/jpeg"/>
  <Override PartName="/ppt/media/image33.wmf" ContentType="image/x-wmf"/>
  <Override PartName="/ppt/media/image3.wmf" ContentType="image/x-wmf"/>
  <Override PartName="/ppt/media/image12.png" ContentType="image/png"/>
  <Override PartName="/ppt/media/image23.jpeg" ContentType="image/jpeg"/>
  <Override PartName="/ppt/media/image25.wmf" ContentType="image/x-wmf"/>
  <Override PartName="/ppt/media/image1.png" ContentType="image/pn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CFE1-5A2B-4993-B5B7-EEF67DE2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B4E-29AF-45AE-8AD9-78053D1A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7FB35-CD49-4CAD-ACCC-40CA5C56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51F0A-1910-4909-B6B6-0D0E57FA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4C2B1-EDF7-4FEF-8491-14DFF915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68B1E-785B-4C3E-9068-7EA9124D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07403-E435-44C6-B465-C0E20C93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86171-4801-4576-A2C5-38DE3E77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387AA-042B-4ABC-8915-9A2FE199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6E9CE-432F-472B-8DE3-FBCBDF08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E0FBE-E0CE-4017-A925-F0F8CB90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7EB5D-F859-47BE-A396-AEA324BA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6133-3723-4B93-9BBE-3C5A4E1C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ADFBC-C0CD-45EE-9294-644CC0BE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1FED4-7280-4713-A405-756D226D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85577-F4C2-4F76-A796-BE7CD7A4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9D07F-08DD-4031-A7C5-7CE1BCBF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58045-2542-43D2-8E4F-1509F86F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5EEBD-AD39-441A-BFEE-6A5E3BE0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4CD39-742A-4501-8553-5EAC04F3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E1A23-72B6-4884-8B43-EA8581FF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C7356-CDBC-4A0E-B75E-4DA9A81B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9AD3E-60D7-48A2-903A-F0902A73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336E-B97C-455D-8E1D-2C802350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418CE-E33C-42D0-A229-ED3D370B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87113-76C4-42F2-BEE3-20BCEFDD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3A0ED-B1A8-4F8B-97B4-E3DE2283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F90FE-69F0-4435-854E-77635E5F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A3131-21B4-49AE-BBC6-A7475F86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5F39F-068E-4DB8-B066-614DE33E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0C9A6-B697-475D-8230-588B642A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FE43B-3137-4761-A093-4421161C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CE78A-0F24-4020-8CF0-250A0925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191A9-0BE2-4A23-A5B9-A9796B41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487A-9E41-4A53-B1D7-4CFA34DF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274B2-827A-4A1A-8BCB-02470ACD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119E2-64F4-4B27-A04F-A4778D04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EBA68-DCE0-4ABF-8C06-E5A02D48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4C18B-DF7C-4AC6-890C-D451B56E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01025-8BE6-4C99-970C-232FFC48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A93AE-8122-43FF-8D08-43DD6CE5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9A57A-0265-458B-A7DB-92124C17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A0633-82CA-498F-A667-BA7F7B2A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62C58-2203-468E-9427-A45AEB2D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9609F-9A08-4167-9A2B-CDED8AE4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A50A-13BD-4932-919F-98DFFB09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347C2-8C68-4069-80E4-18D51B24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AB9BB-D164-446C-A15C-8890B98F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AF473-9E58-4167-BE22-AE921784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DA4DF-0C52-4D4B-9CEC-0F37B5A8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57BEC-51FC-412C-AED3-6A34A836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CBEB-F1E7-4CFB-8C4A-7C782D4D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FE43-7EBB-4C53-BE55-792F1D65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0158-9E47-4AD5-8570-8B372878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F770-A0D2-43EC-8117-B9353197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8372-672B-42C2-9247-C30F7E2C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C9E-DC4F-4566-BFD0-3A9A5B6A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734C-FF35-463A-AA5A-4967D607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F2AB-5224-4ED4-BF9E-7029AF03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0F66-3CA4-4092-A71D-D88BA8FB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3BAD-181E-4A23-A279-7E3744D9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4017-7FD6-4805-99AC-5029FA2B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849F6-0866-4FEC-8A70-84AB7A17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C7ACE-A4A2-4D9B-BD4C-BC958164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8E078-B4DE-416C-8E39-2C56A34C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42175-E78F-4E31-A663-0E9AF89D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F8BA0-05CA-413D-AA81-40164676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ED4-5F06-4382-9343-B53E7126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05012-5DAF-4423-9856-7449C1D6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75640-7ECB-413B-A965-69DDC3E8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6336C-6718-4D67-804F-C7C856DA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CC1BC-C3D3-4E1E-8B8E-1C81732F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F7992-0921-4494-8E18-E289B290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F10EE-24BC-45FE-87AA-4C979853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B2B0-5D36-4E83-84BF-FD80C7F0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59391-6A5C-4E30-89B4-C21ADFD8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46DDA-5515-4D0E-A2BF-E9BC5704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D9CE4-87C8-4534-8E73-25394E89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BA9-0852-4870-9C7D-42C95676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3EE8C-2614-4D67-A179-A412B305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50CED-1D94-4FAF-A7C7-BBE4BD21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97F2D-D48E-466A-A638-35C793FD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F6D9B-829E-449F-8E7D-F72BA2CD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C8FAE-C0DD-4BDF-A3BD-AD6AC710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62544-FAB7-4F5A-95AD-2962C660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2A5AF-24FB-4F8E-9A7D-5701008D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47659-00DE-4956-A049-41876E2B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56E66-72FF-467B-97B3-F8B59D9E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F860A-F54C-4F3E-A42E-DEB52830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95C-6959-46C7-BC3A-EF1DC6F5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1121D-261A-4E55-889B-DB840F52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32000-3D90-43FA-9422-9333D2CE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06292-C1F8-497A-AFD7-0827D50B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830FE-19BB-46D5-B49D-10EE7282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A8E71-8BBE-448E-84AB-84EA4773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8E400-2D47-4122-993D-DD2B7B0D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B961F-4019-4A6C-AE5B-5220C15B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21D36-D2DE-4E90-95AF-8A6B0F5A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560FD-D06B-4900-ABC3-51BCD6BA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30B3D-BB24-4426-82A5-52E07945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2CC2-960F-47BA-97D9-D2EE0565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FDE09-A90F-4649-987C-72A06A09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7476A-6239-4B80-B419-34D920B1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12633-3526-473D-A437-90B311E0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BF4DF-A094-40FE-AF66-C062DA65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8C93B-3AEC-485F-922E-B9E5EDFE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5DF98-CE7A-4C13-997E-B9892331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822CE-B573-48A7-A244-F63502B2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00FAC-28DB-46AD-8514-F4345272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A0863-FFD0-45E6-90C4-7A18CFC9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CD922-6D66-46B5-80A0-9C3B6209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DFF-1C20-4B75-974A-4A94ABA5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D2147-387D-4592-988A-7AEC4A14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9B4BA-34C1-4C32-A186-9D17F7CB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EEB3F-EF21-4107-B039-19F375FE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BEAE2-2184-42AC-A518-212C5E3B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9FA4F-C3BC-4EEF-95D2-AF93D441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EBA58-593C-41AB-9C48-0C26FB68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13DFD-59DF-47E1-A9D6-2B876F2E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1AE11-C0D5-4308-AFC1-6B3C8C0B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2ABF2-48E5-41F4-8773-72FE23E4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F3129-5945-4196-AADA-0077B30C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BAB1-27C9-4F19-BD01-20F8C7A4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DCF7B-5673-44E3-87A4-6F46ED26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93A0F-81B8-44CC-B5B4-0273974B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15150-B16C-42C8-B980-47E30B36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1FBB9-FBB6-4A48-AE97-D0313BF7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6023E-6028-472C-9455-9AD87587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C4BC3-5316-4543-AD9A-55FC0301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99BDD-85C1-4D49-8488-52267464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88E4B-2A96-455C-B596-7974BC6B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10153-7133-43A6-8ECD-A918B430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BFB9D-668A-4526-9107-7030A278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849-BB16-4B33-9627-E2862706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B6E20-4CB4-4A58-91E0-8181F54F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70D19-5293-4914-9498-97175CFA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1C73F-A25F-4586-8DC8-99747E73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1935E-244D-4842-BAD5-771C6C1F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87F95-812C-4CEC-AA48-BC5E3ECB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2EDC3-17AD-4515-A9E0-B3D3588F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FB435-529D-4340-9BBB-F4C0B1EF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CF3AE-53EC-401E-B937-08244CB9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CC1A6-2333-46C5-8675-A861D42B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EF769-8650-46B3-B2EE-58A6B49C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4463-087C-4A3F-8F21-3536E76AF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70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72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76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dt" idx="2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ftr" idx="2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4A1A-8565-4424-8CF1-35F606F5C1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71F3-D730-4F88-AD65-A3F8ECCF4FF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ftr" idx="3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BAED-6515-4196-96E3-6FEFB42CA4F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F577-3A80-4327-AC5A-4E4ED6FDC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85C4-5BCE-4B88-A247-047332546C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0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0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3AE0-6E7B-433C-B175-A32BB7B29A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0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540C-60EB-4829-9FCE-3B3C7CAEF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6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9EFF-75A5-4DED-B532-FBD85A7C5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8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EA78-31B3-4E97-B6CC-A3A64FA995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75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5F15-E8CD-43A9-863A-7D437770BA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23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25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9AC8-CC63-48A0-999C-842318BFB0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cokidsonline.com/pub/eco_info/topics/frogs/chain_reaction/assets/flash/chain_reaction.swf" TargetMode="External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discover.edventures.com/images/termlib/s/silt/support.gif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en.wikipedia.org/wiki/Clay" TargetMode="External"/><Relationship Id="rId5" Type="http://schemas.openxmlformats.org/officeDocument/2006/relationships/hyperlink" Target="http://en.wikipedia.org/wiki/Sand" TargetMode="External"/><Relationship Id="rId6" Type="http://schemas.openxmlformats.org/officeDocument/2006/relationships/hyperlink" Target="http://www.kozmicdreams.com/images/Home%20and%20Collections/Rocks/three%20unusual%20patterned%20rocks.jpg" TargetMode="External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4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4.wmf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3886200"/>
            <a:ext cx="6934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 Grade Science Review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4648320" y="5334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5638680" y="5638680"/>
            <a:ext cx="25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rolina Fle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656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914400" y="83808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Screw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3" name="" descr="Screw"/>
          <p:cNvPicPr/>
          <p:nvPr/>
        </p:nvPicPr>
        <p:blipFill>
          <a:blip r:embed="rId1"/>
          <a:stretch/>
        </p:blipFill>
        <p:spPr>
          <a:xfrm>
            <a:off x="4038480" y="2362320"/>
            <a:ext cx="1233720" cy="246672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1676520" y="48769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 inclined plane wrapped around an ax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2"/>
          <a:stretch/>
        </p:blipFill>
        <p:spPr>
          <a:xfrm>
            <a:off x="6781680" y="2590920"/>
            <a:ext cx="1149480" cy="172692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2381040" cy="33721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838080" y="83808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Wheel &amp; Axl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8" name="" descr="Wheel and Axle"/>
          <p:cNvPicPr/>
          <p:nvPr/>
        </p:nvPicPr>
        <p:blipFill>
          <a:blip r:embed="rId1"/>
          <a:stretch/>
        </p:blipFill>
        <p:spPr>
          <a:xfrm>
            <a:off x="3429000" y="2514600"/>
            <a:ext cx="1914480" cy="191448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1143000" y="48769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eel fastened to an axle that turn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1627200" cy="211608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3"/>
          <a:stretch/>
        </p:blipFill>
        <p:spPr>
          <a:xfrm>
            <a:off x="6095880" y="2514600"/>
            <a:ext cx="2362320" cy="20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eec94"/>
                </a:solidFill>
                <a:latin typeface="Times New Roman"/>
              </a:rPr>
              <a:t>Food Chains</a:t>
            </a:r>
            <a:endParaRPr b="1" lang="en-US" sz="117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med" advTm="2000">
    <p:blinds dir="horz"/>
    <p:sndAc>
      <p:stSnd>
        <p:snd r:embed="rId1" name="type.wav"/>
      </p:stSnd>
    </p:sndAc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100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100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00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ducers - pl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sumers-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cc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cc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cc00"/>
                </a:solidFill>
                <a:latin typeface="Times New Roman"/>
              </a:rPr>
              <a:t>Herbivore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eat only pla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cc00"/>
                </a:solidFill>
                <a:latin typeface="Times New Roman"/>
              </a:rPr>
              <a:t>Carnivor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eat only mea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cccc00"/>
                </a:solidFill>
                <a:latin typeface="Times New Roman"/>
              </a:rPr>
              <a:t>Omnivor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eat both plant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me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compos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1000">
    <p:blinds dir="horz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omplete the Food Chain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5" name="">
            <a:hlinkClick r:id="rId1"/>
          </p:cNvPr>
          <p:cNvSpPr/>
          <p:nvPr/>
        </p:nvSpPr>
        <p:spPr>
          <a:xfrm>
            <a:off x="2514600" y="2743200"/>
            <a:ext cx="3581280" cy="259092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ck here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>
            <a:hlinkClick r:id="" action="ppaction://hlinkshowjump?jump=nextslide"/>
          </p:cNvPr>
          <p:cNvSpPr/>
          <p:nvPr/>
        </p:nvSpPr>
        <p:spPr>
          <a:xfrm>
            <a:off x="7772400" y="56386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066680" y="1371600"/>
            <a:ext cx="6400800" cy="9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0033cc"/>
                </a:solidFill>
                <a:latin typeface="Tahoma"/>
              </a:rPr>
              <a:t>Soil</a:t>
            </a:r>
            <a:endParaRPr b="0" lang="en-US" sz="25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">
    <p:blinds dir="horz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685800" y="1828800"/>
            <a:ext cx="64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provides the support and nutrients necessary for plant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7162920" y="1371600"/>
            <a:ext cx="1584360" cy="184140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1676520" y="304920"/>
            <a:ext cx="304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99"/>
                </a:solidFill>
                <a:latin typeface="Tahoma"/>
              </a:rPr>
              <a:t>Soil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09480" y="39625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is a 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natural resource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 that should be conser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1600200" cy="159084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5791320" y="58672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Help take care of our Eart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blinds dir="horz"/>
    <p:sndAc>
      <p:stSnd>
        <p:snd r:embed="rId4" name="explode.wav"/>
      </p:stSnd>
    </p:sndAc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3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62120" y="83808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Soil is composed of 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ocks</a:t>
            </a: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, 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ay</a:t>
            </a: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, 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lt</a:t>
            </a: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, 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and</a:t>
            </a: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 and </a:t>
            </a: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humus</a:t>
            </a: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2201760"/>
            <a:ext cx="2133720" cy="165420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5638680" y="3849120"/>
            <a:ext cx="2667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larger than </a:t>
            </a:r>
            <a:r>
              <a:rPr b="0" lang="en-US" sz="1800" spc="-1" strike="noStrike" u="sng">
                <a:solidFill>
                  <a:srgbClr val="65b2ff"/>
                </a:solidFill>
                <a:uFillTx/>
                <a:latin typeface="Tahoma"/>
                <a:hlinkClick r:id="rId4"/>
              </a:rPr>
              <a:t>clay</a:t>
            </a:r>
            <a:r>
              <a:rPr b="0" lang="en-US" sz="1800" spc="-1" strike="noStrike" u="sng">
                <a:solidFill>
                  <a:srgbClr val="0033cc"/>
                </a:solidFill>
                <a:uFillTx/>
                <a:latin typeface="Tahoma"/>
              </a:rPr>
              <a:t> but smaller than a </a:t>
            </a:r>
            <a:r>
              <a:rPr b="0" lang="en-US" sz="1800" spc="-1" strike="noStrike" u="sng">
                <a:solidFill>
                  <a:srgbClr val="65b2ff"/>
                </a:solidFill>
                <a:uFillTx/>
                <a:latin typeface="Tahoma"/>
                <a:hlinkClick r:id="rId5"/>
              </a:rPr>
              <a:t>san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2438280"/>
            <a:ext cx="1417680" cy="152424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clay-equipment/adrian-330.jpg"/>
          <p:cNvPicPr/>
          <p:nvPr/>
        </p:nvPicPr>
        <p:blipFill>
          <a:blip r:embed="rId8"/>
          <a:stretch/>
        </p:blipFill>
        <p:spPr>
          <a:xfrm>
            <a:off x="2438280" y="2209680"/>
            <a:ext cx="2667240" cy="18259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228600" y="3886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819520" y="40384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153280" y="2590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181480" y="2590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9"/>
          <a:stretch/>
        </p:blipFill>
        <p:spPr>
          <a:xfrm>
            <a:off x="685800" y="4572000"/>
            <a:ext cx="1860480" cy="190512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380880" y="60199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95480" y="5029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0"/>
          <a:stretch/>
        </p:blipFill>
        <p:spPr>
          <a:xfrm>
            <a:off x="3657600" y="4724280"/>
            <a:ext cx="2209680" cy="166716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3886200" y="60199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095880" y="4952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010280" y="4952880"/>
            <a:ext cx="21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SOI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blinds dir="horz"/>
    <p:sndAc>
      <p:stSnd>
        <p:snd r:embed="rId11" name="explode.wav"/>
      </p:stSnd>
    </p:sndAc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3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3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3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3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7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3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3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3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3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3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3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3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" descr="Soil Profile"/>
          <p:cNvPicPr/>
          <p:nvPr/>
        </p:nvPicPr>
        <p:blipFill>
          <a:blip r:embed="rId2"/>
          <a:stretch/>
        </p:blipFill>
        <p:spPr>
          <a:xfrm>
            <a:off x="762120" y="380880"/>
            <a:ext cx="1787400" cy="605808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2895480" y="12193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Tahoma"/>
              </a:rPr>
              <a:t>Topsoi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276720" y="22860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Tahoma"/>
              </a:rPr>
              <a:t>Ground lev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22860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Tahoma"/>
              </a:rPr>
              <a:t>Subsoi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00400" y="5410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Tahoma"/>
              </a:rPr>
              <a:t>Bedroc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2057400" y="609480"/>
            <a:ext cx="99072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2209680" y="5867280"/>
            <a:ext cx="99072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2209680" y="2743200"/>
            <a:ext cx="144792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2209680" y="1447920"/>
            <a:ext cx="99072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2057040" y="2743200"/>
            <a:ext cx="1600200" cy="152388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blinds dir="horz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9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7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77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770" fill="hold"/>
                                        <p:tgtEl>
                                          <p:spTgt spid="7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5" dur="77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000"/>
                            </p:stCondLst>
                            <p:childTnLst>
                              <p:par>
                                <p:cTn id="51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000"/>
                            </p:stCondLst>
                            <p:childTnLst>
                              <p:par>
                                <p:cTn id="5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77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0" dur="770" fill="hold"/>
                                        <p:tgtEl>
                                          <p:spTgt spid="7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2" dur="77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000"/>
                            </p:stCondLst>
                            <p:childTnLst>
                              <p:par>
                                <p:cTn id="52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77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770" fill="hold"/>
                                        <p:tgtEl>
                                          <p:spTgt spid="7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1905120" y="1066680"/>
            <a:ext cx="533376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33cc"/>
                </a:solidFill>
                <a:latin typeface="Tahoma"/>
              </a:rPr>
              <a:t>Water Cycle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blinds dir="horz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330033"/>
                </a:solidFill>
                <a:latin typeface="Times New Roman"/>
              </a:rPr>
              <a:t>Steps to the </a:t>
            </a:r>
            <a:br>
              <a:rPr sz="6300"/>
            </a:br>
            <a:r>
              <a:rPr b="0" lang="en-US" sz="6300" spc="-1" strike="noStrike">
                <a:solidFill>
                  <a:srgbClr val="330033"/>
                </a:solidFill>
                <a:latin typeface="Times New Roman"/>
              </a:rPr>
              <a:t>Scientific Method</a:t>
            </a:r>
            <a:endParaRPr b="0" lang="en-US" sz="63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advTm="4000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1066680" y="182880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*The water cycle never stops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066680" y="2971800"/>
            <a:ext cx="6782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*It is driven by the power of the </a:t>
            </a:r>
            <a:r>
              <a:rPr b="0" lang="en-US" sz="8000" spc="-1" strike="noStrike">
                <a:solidFill>
                  <a:srgbClr val="0033cc"/>
                </a:solidFill>
                <a:latin typeface="Tahoma"/>
              </a:rPr>
              <a:t>SUN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4724280" y="3525840"/>
            <a:ext cx="3505320" cy="333216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990720" y="53352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*Water is essential for all living </a:t>
            </a: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things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500"/>
                            </p:stCondLst>
                            <p:childTnLst>
                              <p:par>
                                <p:cTn id="5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7900"/>
                            </p:stCondLst>
                            <p:childTnLst>
                              <p:par>
                                <p:cTn id="5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1700"/>
                            </p:stCondLst>
                            <p:childTnLst>
                              <p:par>
                                <p:cTn id="5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066680" y="68580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There are 4 step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590920" y="175248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Tahoma"/>
              </a:rPr>
              <a:t>E</a:t>
            </a:r>
            <a:r>
              <a:rPr b="0" lang="en-US" sz="4800" spc="-1" strike="noStrike">
                <a:solidFill>
                  <a:srgbClr val="0033cc"/>
                </a:solidFill>
                <a:latin typeface="Tahoma"/>
              </a:rPr>
              <a:t>vaporation</a:t>
            </a: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514600" y="2895480"/>
            <a:ext cx="39625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en-US" sz="4800" spc="-1" strike="noStrike">
                <a:solidFill>
                  <a:srgbClr val="0033cc"/>
                </a:solidFill>
                <a:latin typeface="Tahoma"/>
              </a:rPr>
              <a:t>ondensation</a:t>
            </a: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514600" y="396252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Tahoma"/>
              </a:rPr>
              <a:t>P</a:t>
            </a:r>
            <a:r>
              <a:rPr b="0" lang="en-US" sz="4800" spc="-1" strike="noStrike">
                <a:solidFill>
                  <a:srgbClr val="0033cc"/>
                </a:solidFill>
                <a:latin typeface="Tahoma"/>
              </a:rPr>
              <a:t>recipi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14600" y="495288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Tahoma"/>
              </a:rPr>
              <a:t>C</a:t>
            </a:r>
            <a:r>
              <a:rPr b="0" lang="en-US" sz="4800" spc="-1" strike="noStrike">
                <a:solidFill>
                  <a:srgbClr val="0033cc"/>
                </a:solidFill>
                <a:latin typeface="Tahoma"/>
              </a:rPr>
              <a:t>oll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438280" y="594360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ahoma"/>
              </a:rPr>
              <a:t>E-C-P-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9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 flipH="1">
            <a:off x="6248160" y="5257800"/>
            <a:ext cx="1679400" cy="117324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3"/>
          <a:stretch/>
        </p:blipFill>
        <p:spPr>
          <a:xfrm>
            <a:off x="4495680" y="5257800"/>
            <a:ext cx="1825920" cy="117324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>
            <a:off x="304920" y="434340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Tahoma"/>
              </a:rPr>
              <a:t>Evaporation</a:t>
            </a: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981080" y="175248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Tahoma"/>
              </a:rPr>
              <a:t>Condensation</a:t>
            </a:r>
            <a:r>
              <a:rPr b="0" lang="en-US" sz="4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181480" y="388620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Tahoma"/>
              </a:rPr>
              <a:t>Precipi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800600" y="487692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Tahoma"/>
              </a:rPr>
              <a:t>Collec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1066680" y="2971440"/>
            <a:ext cx="0" cy="121932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1371600" y="2971440"/>
            <a:ext cx="0" cy="121932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1676520" y="2971440"/>
            <a:ext cx="0" cy="121932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4"/>
          <a:stretch/>
        </p:blipFill>
        <p:spPr>
          <a:xfrm>
            <a:off x="2362320" y="762120"/>
            <a:ext cx="1842840" cy="121284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5"/>
          <a:stretch/>
        </p:blipFill>
        <p:spPr>
          <a:xfrm>
            <a:off x="6019920" y="1295280"/>
            <a:ext cx="2063520" cy="263376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6"/>
          <a:stretch/>
        </p:blipFill>
        <p:spPr>
          <a:xfrm>
            <a:off x="7696080" y="1905120"/>
            <a:ext cx="970200" cy="179208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7"/>
          <a:stretch/>
        </p:blipFill>
        <p:spPr>
          <a:xfrm>
            <a:off x="990720" y="5257800"/>
            <a:ext cx="1825560" cy="117324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8"/>
          <a:stretch/>
        </p:blipFill>
        <p:spPr>
          <a:xfrm flipH="1">
            <a:off x="2742840" y="5257800"/>
            <a:ext cx="1832040" cy="1173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2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838080" y="304920"/>
            <a:ext cx="769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Ques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914400" y="129528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Hypothe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914400" y="228600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Experim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914400" y="320040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Observ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914400" y="419112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838080" y="304920"/>
            <a:ext cx="769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ues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914400" y="129528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pothesi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914400" y="228600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xperime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914400" y="320040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bserv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914400" y="419112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onclus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066680" y="533412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iet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ppos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t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ly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rot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" descr="Hippopotamus clip art"/>
          <p:cNvPicPr/>
          <p:nvPr/>
        </p:nvPicPr>
        <p:blipFill>
          <a:blip r:embed="rId1"/>
          <a:stretch/>
        </p:blipFill>
        <p:spPr>
          <a:xfrm>
            <a:off x="-1371600" y="4800600"/>
            <a:ext cx="1371600" cy="87804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8077320" y="4800600"/>
            <a:ext cx="715680" cy="541440"/>
          </a:xfrm>
          <a:prstGeom prst="rect">
            <a:avLst/>
          </a:prstGeom>
          <a:ln w="0">
            <a:noFill/>
          </a:ln>
        </p:spPr>
      </p:pic>
    </p:spTree>
  </p:cSld>
  <p:transition advTm="9000">
    <p:blinds dir="horz"/>
    <p:sndAc>
      <p:stSnd>
        <p:snd r:embed="rId3" name="whoosh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5.55556E-006 C 0.00521 -0.00348 0.01146 -0.00417 0.01598 -0.00903 C 0.01806 -0.01135 0.01823 -0.01598 0.02049 -0.01806 C 0.02309 -0.02038 0.02657 -0.01991 0.02969 -0.02107 C 0.05018 -0.02894 0.05695 -0.03079 0.08177 -0.03334 C 0.09618 -0.03241 0.11077 -0.03311 0.125 -0.03033 C 0.12709 -0.02987 0.12743 -0.02524 0.12952 -0.02408 C 0.1375 -0.01968 0.14636 -0.01876 0.15452 -0.01505 C 0.16424 -0.00255 0.18056 0.00023 0.19323 0.00601 C 0.20677 0.01226 0.19323 0.00624 0.20677 0.01226 C 0.20903 0.01319 0.21372 0.01527 0.21372 0.01527 C 0.23872 0.01435 0.26372 0.01481 0.28872 0.01226 C 0.30382 0.01064 0.29879 0.00601 0.30921 -5.55556E-006 C 0.3198 -0.00626 0.32987 -0.00834 0.34098 -0.01204 C 0.34931 -0.01482 0.35764 -0.01899 0.36598 -0.02107 C 0.37657 -0.02362 0.39775 -0.02732 0.39775 -0.02732 C 0.41476 -0.02501 0.42691 -0.02153 0.44323 -0.01806 C 0.45313 -0.01366 0.46268 -0.0095 0.47275 -0.00602 C 0.49618 0.01481 0.52969 0.0162 0.55677 0.02129 C 0.57431 0.02036 0.59167 0.0199 0.60921 0.01828 C 0.62709 0.01666 0.6441 0.00555 0.66146 -5.55556E-006 C 0.67448 -0.00857 0.6882 -0.01343 0.70226 -0.01806 C 0.73056 -0.0426 0.7632 -0.04584 0.79549 -0.0544 C 0.81511 -0.05348 0.8349 -0.05325 0.85452 -0.05139 C 0.86615 -0.05024 0.87743 -0.04005 0.88872 -0.03635 C 0.89098 -0.03426 0.89306 -0.03195 0.89549 -0.03033 C 0.89757 -0.02894 0.90018 -0.02894 0.90226 -0.02732 C 0.90417 -0.0257 0.90487 -0.02246 0.90677 -0.02107 C 0.90886 -0.01945 0.91372 -0.01806 0.91372 -0.01806 E">
                                      <p:cBhvr>
                                        <p:cTn id="90" dur="3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914400" y="838080"/>
            <a:ext cx="69343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Six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Simple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Machine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914400" y="83808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Lever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2438280" cy="15015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2"/>
          <a:stretch/>
        </p:blipFill>
        <p:spPr>
          <a:xfrm rot="2406000">
            <a:off x="6324480" y="2057400"/>
            <a:ext cx="2514600" cy="102384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Lever"/>
          <p:cNvPicPr/>
          <p:nvPr/>
        </p:nvPicPr>
        <p:blipFill>
          <a:blip r:embed="rId3"/>
          <a:stretch/>
        </p:blipFill>
        <p:spPr>
          <a:xfrm>
            <a:off x="2895480" y="2971800"/>
            <a:ext cx="3886200" cy="183672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2057400" y="5029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traight rod or board that pivots on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ulc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4"/>
          <a:stretch/>
        </p:blipFill>
        <p:spPr>
          <a:xfrm>
            <a:off x="685800" y="3352680"/>
            <a:ext cx="1598760" cy="1598760"/>
          </a:xfrm>
          <a:prstGeom prst="rect">
            <a:avLst/>
          </a:prstGeom>
          <a:ln w="0">
            <a:noFill/>
          </a:ln>
        </p:spPr>
      </p:pic>
    </p:spTree>
  </p:cSld>
  <p:transition advTm="9000">
    <p:cover dir="d"/>
    <p:sndAc>
      <p:stSnd>
        <p:snd r:embed="rId5" name="hammer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914400" y="83808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Pulle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" descr="Pulley"/>
          <p:cNvPicPr/>
          <p:nvPr/>
        </p:nvPicPr>
        <p:blipFill>
          <a:blip r:embed="rId1"/>
          <a:stretch/>
        </p:blipFill>
        <p:spPr>
          <a:xfrm>
            <a:off x="3962520" y="2209680"/>
            <a:ext cx="1600200" cy="322920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1523880" y="52578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el with a rope used to pull load up or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6629400" y="1066680"/>
            <a:ext cx="1684440" cy="3571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457200" y="2133720"/>
            <a:ext cx="2217600" cy="2274840"/>
          </a:xfrm>
          <a:prstGeom prst="rect">
            <a:avLst/>
          </a:prstGeom>
          <a:ln w="0">
            <a:noFill/>
          </a:ln>
        </p:spPr>
      </p:pic>
    </p:spTree>
  </p:cSld>
  <p:transition advTm="9000"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533520" y="762120"/>
            <a:ext cx="822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Inclined Plan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193212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Inclined Plane"/>
          <p:cNvPicPr/>
          <p:nvPr/>
        </p:nvPicPr>
        <p:blipFill>
          <a:blip r:embed="rId2"/>
          <a:stretch/>
        </p:blipFill>
        <p:spPr>
          <a:xfrm>
            <a:off x="2743200" y="2819520"/>
            <a:ext cx="3267000" cy="129672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3"/>
          <a:stretch/>
        </p:blipFill>
        <p:spPr>
          <a:xfrm>
            <a:off x="0" y="2362320"/>
            <a:ext cx="2514600" cy="196344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1143000" y="495288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sloping surface, such as a ram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split dir="in" orient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914400" y="83808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Wedg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6781680" y="1066680"/>
            <a:ext cx="1782720" cy="230508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 rot="2898000">
            <a:off x="468360" y="1131840"/>
            <a:ext cx="1870200" cy="28065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Wedge"/>
          <p:cNvPicPr/>
          <p:nvPr/>
        </p:nvPicPr>
        <p:blipFill>
          <a:blip r:embed="rId3"/>
          <a:stretch/>
        </p:blipFill>
        <p:spPr>
          <a:xfrm>
            <a:off x="3581280" y="2286000"/>
            <a:ext cx="1590840" cy="277668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133720" y="525780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wo inclined planes joined back to back-used to c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blinds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8:27:01Z</dcterms:created>
  <dc:creator>cfleming</dc:creator>
  <dc:description/>
  <dc:language>en-US</dc:language>
  <cp:lastModifiedBy>Donna Gilliam</cp:lastModifiedBy>
  <dcterms:modified xsi:type="dcterms:W3CDTF">2006-03-01T23:06:59Z</dcterms:modified>
  <cp:revision>10</cp:revision>
  <dc:subject/>
  <dc:title>Science </dc:title>
</cp:coreProperties>
</file>